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4F06-3F8A-44CE-A785-DB3607392F23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F8F4-BD59-4190-9364-9CE5C898042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0DD-620C-4000-8F60-FF48AC1D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E73-2220-4CAB-A9C2-62BDC319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306-6753-4042-A4B6-EFBE6D03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098-A120-4ACB-B33E-DA5CA92E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4BF5-396E-4A96-9B50-1FCEC4CA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C3D8-B066-4BC4-B1EB-2BEC768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FEC8-BE9D-443B-955E-AD72649B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3779-18E4-4C7F-9387-0D08C3AB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380-1A10-49DD-B53B-6F40C9E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6D03-07E4-4BF2-BC0B-446313E6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C19E-F19A-4926-829D-2F77BBB8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33E-6DCB-4642-9754-DE76BA1E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A0A5-C6AF-44C2-A031-84D2C97D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DF9-16DC-4192-AF14-B819FF1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588F-D09A-47C1-9AE0-AA3D6CE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4AFD-78DB-4714-9B9A-4005CF57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1F70-B757-4FC4-BF0A-C60813E1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1A7E-5863-48B3-9951-D5BB583A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AA3CE-691A-40F7-B68A-11D43A7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1253-640B-423D-B64E-AE4C935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36EE-0F49-4BCC-987B-60D6EF8A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662A-DB1E-4CBD-9A08-81218AB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6CD-C7E5-4098-AF43-60BFD752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4D15-46A1-4F89-8636-F6F496C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B056-5D40-4A0E-80DD-219337D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6C26-7F40-4AB4-86C5-3994175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8FB5-B7B7-4F21-B28F-4FD2F56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85BA-9CB2-4B9E-BBA1-1819956E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5591-ECF5-4D19-8E2D-1A8B870A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72D5-6204-4BC6-A4E6-40E772DB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8E3B-647A-4732-A53B-E98474E4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D761-22F4-477C-9C23-DA7B2EEE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0B02-5714-4B2F-BB50-4B09679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FED-7FA7-447D-BFA9-95867F55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3D18-72AC-4B7F-AEBF-F05A3900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167E-F024-4E7E-9B4C-AE96CBC1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0BE4-2611-4478-9E05-51B81F0B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3948-2E1D-4F38-B965-AF3C646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3D48-3E3F-422E-BE00-AFB74C7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087E-E195-4751-B3FF-6B05FFA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7332-1BD3-45A1-97E6-FFB20127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8A71-C9BD-4A05-B9CF-CCDA3408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230B-D4DA-4900-BAAE-40D5398A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0A92-E2FA-4BC2-8490-1FD8F4A1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883-25F5-4549-8113-4C371C39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29C3-AD79-4AA1-8535-1DBD3F2E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73B7-1848-44B5-BC79-707A3E2F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AD77-331D-4EAF-BA09-7844638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35F6F-8793-4286-BCDF-2DDB7AE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2D50-FCEA-4D1E-B170-8E1457F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73622-EE38-4933-83E5-565EE2D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3052-2D6E-4497-9A6F-1C72793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42B6-14A5-4765-8DCA-816F3E7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C73E1-E379-4E2E-A415-B95001E8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BD2C5-E3C5-4286-8396-278DB653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531-4C22-4653-B0EE-3926289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77E16-B7CF-4150-9C3F-D50BF930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A96-4FF0-42E2-8997-A8D0B40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37B-8107-4523-B8D3-5FB78D8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B8A-39C5-48FA-9772-FE85909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6C3-1403-48B5-9A4E-0B8781F734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87480" y="69840"/>
            <a:ext cx="1201716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84240" y="1449360"/>
            <a:ext cx="1202832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84240" y="1397160"/>
            <a:ext cx="1202832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84240" y="2976480"/>
            <a:ext cx="1202832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3A7-6746-4901-8EAF-15B8ABD321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79200" y="60480"/>
            <a:ext cx="12039840" cy="6711840"/>
            <a:chOff x="79200" y="60480"/>
            <a:chExt cx="1203984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79200" y="60480"/>
              <a:ext cx="1203984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84320" y="166680"/>
              <a:ext cx="1182348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92160" y="2376000"/>
            <a:ext cx="1201896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92160" y="2341440"/>
            <a:ext cx="1201896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90360" y="2468520"/>
            <a:ext cx="1202076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066320" y="61722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84400" y="62755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4A2-F928-41E8-B4AF-019FBF839C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1108-503A-4100-82EC-A27430566E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90360" y="4682160"/>
            <a:ext cx="120096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92160" y="4649760"/>
            <a:ext cx="120078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92160" y="4773600"/>
            <a:ext cx="12007800" cy="493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1218960" y="61722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84400" y="62755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A40A-D7C3-4852-9A60-CFCC8977F7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342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ANAVIL-Avvaiyar"/>
              </a:rPr>
              <a:t>நாள் </a:t>
            </a:r>
            <a:r>
              <a:rPr b="1" lang="en-US" sz="4400" spc="-1" strike="noStrike">
                <a:solidFill>
                  <a:srgbClr val="464646"/>
                </a:solidFill>
                <a:latin typeface="Arial"/>
                <a:ea typeface="Arial"/>
              </a:rPr>
              <a:t>2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464646"/>
                </a:solidFill>
                <a:latin typeface="VANAVIL-Avvaiyar"/>
              </a:rPr>
              <a:t>fâj¥ ghl¤Â‰fhd f‰wš éisÎfŸ </a:t>
            </a:r>
            <a:br>
              <a:rPr sz="4000"/>
            </a:br>
            <a:r>
              <a:rPr b="1" lang="en-US" sz="4000" spc="-1" strike="noStrike">
                <a:solidFill>
                  <a:srgbClr val="464646"/>
                </a:solidFill>
                <a:latin typeface="VANAVIL-Avvaiyar"/>
              </a:rPr>
              <a:t>bjhl¡f ãiy (90 </a:t>
            </a:r>
            <a:r>
              <a:rPr b="1" lang="en-US" sz="3200" spc="-1" strike="noStrike">
                <a:solidFill>
                  <a:srgbClr val="464646"/>
                </a:solidFill>
                <a:latin typeface="VANAVIL-Avvaiyar"/>
              </a:rPr>
              <a:t>நிமிடங்கள்</a:t>
            </a:r>
            <a:r>
              <a:rPr b="1" lang="en-US" sz="4000" spc="-1" strike="noStrike">
                <a:solidFill>
                  <a:srgbClr val="464646"/>
                </a:solidFill>
                <a:latin typeface="VANAVIL-Avvaiyar"/>
              </a:rPr>
              <a:t>)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457200"/>
            <a:ext cx="11049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mini"/>
              </a:rPr>
              <a:t>fz;lwpAk; kdg;ghq;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gpur;ridfisj; jPh;j;jy; - Gjpa fz;L gpbg;GfSf;F ek;ik mioj;J nry;Yk;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mini"/>
              </a:rPr>
              <a:t>jh;f;fhPjpahf rpe;jpj;jy;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tbtpay; vd;gJ eilKiw jh;f;fk;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eilKiwapy; vspikahfg; czuf; $baJkhd fhuzfhhPa tpjpfis cs;slf;fpaJ tbtpay; -- B.Myk;gh;l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‘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wpaPl;L jh;f;fNk fzpjk;&gt; fzpjNk FwpaPl;L jh;f;fk;’ -- C.J.nfa;rh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09480" y="457200"/>
            <a:ext cx="11049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fzpj Ghpjy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xt;nthU fzpj $w;Wk; rhpah&gt; jtwh&gt; fzpj R+j;jpuq;fs; vt;thW ngwg;gLfpd;wd vd Muha;tJ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Ghpjy; vd;gJ xd;iw Nehf;fp nray;gl itg;gJ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xU Fwpg;gpl;l mwptpypUe;J nghJikg;gLj;j cjTtNj cz;ikahd Ghpjy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fzpj fUj;J Ghpjypd; ,U J}z;fs;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fUj;J mwp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ual Knowledge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nray;Kiw jpwdwp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Skill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304560"/>
            <a:ext cx="11353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fUj;J mwp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ual Knowledge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xU tiuaiwahfNth my;yJ $w;whfNth my;yJ Njw;wkhfNth Mf ,Uf;fyhk;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vLj;Jf;fhl;Lfs;&gt; njhlh;Gfs;&gt; epfo;Tfs; %yk; KOikahf Ghpe;J nfhs;Sk; tha;g;Gfs; mspf;fg;gly;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nray;Kiw jpwdwp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Skill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nray;Kiw mwpthdJ fUj;J Ghpjiy Vw;gLj;j Ntz;ba mtrpakpy;i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vLj;Jf;fhl;lhf&gt;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2 vd;w tFj;jy; nraiy mwpe;J tpil 3 vdf; $Wk; Foe;ij Ghpe;J nfhz;L jhd; gjpyspf;fpwhd; vd;gjpy;i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fUj;J Ghpjy; kw;Wk; nray;Kiw jpwd; Mfpa ,uz;LNk mtrpakhdjhFk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2520" y="1142640"/>
            <a:ext cx="1120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ANAVIL-Avvaiyar"/>
              </a:rPr>
              <a:t>fiy¤Â£l vÂ®gh®¥òfŸ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xU  F¿¥Ã£l fhy¤Â‰FŸ,  xU FHªij bgw nt©oa m¿Î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jid¥ ga‹gL¤Â ts®¡f nt©oa Âw‹fŸ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cŸsl¡»a kd¥gh‹ikia miltjhF«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ANAVIL-Avvaiyar"/>
              </a:rPr>
              <a:t>f‰wš éisÎfŸ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iy¤Â£l vÂ®gh®¥òfëèUªJ f‰wš éisÎfŸ bgw¥gL»‹w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10515600" cy="99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ANAVIL-Avvaiyar"/>
              </a:rPr>
              <a:t>fiy¤Â£l vÂ®gh®¥òfŸ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VANAVIL-Avvaiyar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VANAVIL-Avvaiyar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VANAVIL-Avvaiyar"/>
              </a:rPr>
              <a:t>bjhl¡f ãiy tF¥òfŸ)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440" y="1371240"/>
            <a:ext cx="11125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‹whl thœ¡if NHY¡F« fâj Áªjid¡F« cŸs bjhl®ig nk«gL¤Jjš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ot§fŸ k‰W« mj‹ g©òfis òçªJ bfhŸtnjhL. mt‰iw NHèš fhQ« bghU£fnshL bghU¤Â gh®¤J x‰Wik k‰W« nt‰Wikfis btë¡bfh©U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ot§fŸ k‰W« mt‰nwhL bjhl®òila bghU£fis c‰Wneh¡» g©òfë‹ mo¥gilæš x‰Wik, nt‰Wikfis khzt®fŸ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33160" y="228600"/>
            <a:ext cx="11048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‹whl thœéš vÂ®bfhŸS« Á¡fšfis v©rh® mo¥gil brašfis (T£lš, fê¤jš, bgU¡fš, tF¤jš) bfh©L jd¡fhd têæš Ô®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v©fâj  brašghLfëš mikÍ« têKiwfëš fâj bkhê k‰W« fâj F¿pLfisŒ   ga‹gL¤J« Âwid  nk«gL¤J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Ïu©L mšyJ mj‰F nk‰g£l v©fS¡F Ïilnaahd brašfë‹ éisit njhuha¥gL¤jÎ« m‹whl  thœéaš brašghLfëš ga‹gL¤jÎ« m¿jš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8080" y="533520"/>
            <a:ext cx="10515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Ã‹d« v‹gJ KG¥ bghUë‹ xU gFÂ vdÎ«, vëa Ã‹d§fë‹ tçiria f©l¿aÎ« m¿ªÂU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étu§fis nrfç¥gnjhL, nrfç¤j étu§fis  tH§fÎ«, ifahsÎ« m‹whl thœéš ga‹gL¤j m¿ªÂU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v©fŸ k‰W« tot§fë‹ mik¥Ãid milahs« fhzÎ« éçth¡f« brŒaÎ« bjçªÂU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440" y="142560"/>
            <a:ext cx="1082988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 </a:t>
            </a: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Áw¥ò</a:t>
            </a:r>
            <a:r>
              <a:rPr b="0" lang="en-US" sz="3600" spc="-1" strike="noStrike">
                <a:solidFill>
                  <a:srgbClr val="464646"/>
                </a:solidFill>
                <a:latin typeface="VANAVIL-Avvaiyar"/>
              </a:rPr>
              <a:t>¤</a:t>
            </a: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njit FHªijfS¡fhd F¿¥òfŸ (fâj«)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0" y="1071360"/>
            <a:ext cx="11787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 FHªijfŸ bjh£Lz®ªJ f‰»‹wd®,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 FHªijfŸ tot§fŸ, cUt§fŸ, fz¡»Ljš ngh‹w ghl¤ bjhl®òila ghl¡ fU¤J¡fis Áw¥ò¡ fUéfis¡ bfh©L f‰»‹wd®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U¡F vëa bkhêeilÍ«, mÂf gl§fS« njit¥gL»‹wd.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U¡F juÎfisô»¤J m¿a   tiugl«, m£ltizfŸ mšyJ br›tf¥g£il és¡f¥gl« ngh‹w gFÂfëš cjé njit¥glyh«.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0520" y="357120"/>
            <a:ext cx="11572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NAVIL-Avvaiyar"/>
              </a:rPr>
              <a:t>kd¡fz¡if brŒÍ«nghJ«, juÎfis ifahS« nghJ« cjéfŸ njit¥glyh«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NAVIL-Avvaiyar"/>
              </a:rPr>
              <a:t>msÅL k‰W« fU¤Âaš Áªjidfis¥ bgWtÂš V‰gL« Ïl®ghLfis¡ fisa jftš bjhêšE£g¡ fUéfis¥ ga‹gL¤jyh«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14200"/>
            <a:ext cx="105156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VANAVIL-Avvaiyar"/>
              </a:rPr>
              <a:t>gh®it¡FiwghLila  FHªijfS¡F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520" y="1071360"/>
            <a:ext cx="11572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Ïltik¥ò (Ïl¤ij mil¤jš) F¿¤j fU¤ij ts®¤jš k‰W« Ïltik¥òfS¡»ilnaÍŸs bjhl®ig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K¥gçkhz bghUŸfŸ  ÏU gçkhz totkhf kh‰w« bgWtij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âj¤Âš ga‹gL¤j¥gL« Áw¥ò vG¤Jfis¥ (F¿pLfŸ)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10515600" cy="701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Bamini"/>
              </a:rPr>
              <a:t>njhlf;f fy;tp gUtk</a:t>
            </a:r>
            <a:r>
              <a:rPr b="0" lang="en-US" sz="3600" spc="-1" strike="noStrike">
                <a:solidFill>
                  <a:srgbClr val="464646"/>
                </a:solidFill>
                <a:latin typeface="Bamini"/>
              </a:rPr>
              <a:t>;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880" y="873000"/>
            <a:ext cx="115063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Sf;F mbg;gil fl;likg;ig cUthf;Fk; jsk;  njhlf;f fy;tp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splk; tpjpKiwNahL fw;gpj;jiyf; fhl;bYk;&gt; fw;wYf;F jahh;gLj;Jk; R+oiy cUthf;F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is fw;wYf;fhf jahh;gLj;jypd;wp Mrphpah; vt;tpj fw;gpj;jiyAk; Mrpauhy; epfo;j;jptpl ,ayhJ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Ak; ntt;NtW FLk;gk;&gt; r%f R+oypUe;J gs;spf; $lj;ij ehb fw;Fk; NghJ&gt;vz;zpay; rhh; jpwd;fis tpiuthfTk;&gt; njspthfTk;&gt; Jy;ypakhfTk; fw;f nra;tjy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gh®it¡FiwghLila  FHªijfS¡F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rk‹ghLfŸ ngh‹w fâj¡ fU¤Jfis xè¥gÂÎ brŒtÂš Ïl®ghLfis fisjš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bghUŸ / Ïl« rh® tçir¥gL¤Jjš, ãw«  rh® F¿pL ga‹gL¤Jjš ngh‹wt‰iw ÃbuŒè Kiwæš go¤jš k‰W«vGJtÂš Ïl®ghLfis fisjš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âj ÃbuŒè mšyJ Úbk¤ Kiwæš f‰w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63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bré¤Âw‹ FiwghLila FHªijfS¡fhf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95080" y="1142640"/>
            <a:ext cx="11287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bkhêæaš ts®¢Áæš V‰gL« fhyjhkj«, fâj¥ghl¤Âš cŸs bghJthd k‰W« ghl« rh®ªj brh‰fsŠÁa¤Âš g‰wh¡Fiwia V‰gL¤J»wJ. (c.«) jiyÑœ neça th¡»a fz¡Ffëš ga‹gL¤j¥gL« fâj brh‰fis¥ go¤J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h¡»a¡ fz¡Ffis¥ òçªJ bfhŸSjš (xU bghUis¥ òçªJ bfhŸS« bghU£L gšntW th®¤ijfis¥ ga‹gL¤Jjš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£o Åj«, m£ltiz, nfhz«, Åj«, fd msÎ,  Âw‹, òŸë ngh‹w gy bghUŸ jU« brh‰fis ntWgL¤Â m¿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142920"/>
            <a:ext cx="1036296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bré¤Âw‹ FiwghLila FHªijfS¡fhf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95440" y="785520"/>
            <a:ext cx="1114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âj brh‰bwhl®fis cj£L mirÎ Kiw _y« ntWgL¤Â m¿jš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jhtJ gÂyhf cgnah»¤jš k‰W« mo¥gil brašghLfë‹  tçir¡ »uk¤ij m¿jèš Áuk«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ns and Tenths, sixty and sixteen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iuaW¡f¥g£l m¿Îrh® c¤ÂfŸ ga‹gL¤Â, fâj Á¡fY¡F cfªj étu§fis bjçÎ brŒjš k‰W« Ô®¡f¤ njitahd mQF Kiwfis m¿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òyQz®Î FiwghLila FHªijfS¡F m¿Îrh® FiwghL bgW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çir¡ »uk«, Á¡fšfis Ô®¤jš k‰W« ÏlkÂ¥ig m¿tÂš V‰gL«  bjëé‹ik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2160" y="428760"/>
            <a:ext cx="11287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z¡»Ljš, v©fë‹ khWghLfŸ, fz¡if efbyL¤jš ngh‹w fâj mo¥gil¢ brašghLfëš fâj F¿p£Lfis¥ ga‹gL¤JtÂš FH¥g«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oéaèš bt›ntW tot§fis milahs§ fhQjš k‰W« g©ig m¿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Ïa‰fâj« k‰W« KG v©fŸ ngh‹w fU¤Âaš ãiy rh®ªj fU¤JfŸ, th¡»a fz¡Ffis¥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h¡»a¡ fz¡Ffëš ga‹gL¤j¥gL« fâj¢  brh‰fis¥ go¤J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நன்றி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380520"/>
            <a:ext cx="11049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s; jdJ cldb R+oypy; chpa fw;wy; mDgtq;fs; %yk; mbg;gilf; fzpjf; fUj;Jfis Ghpe;J nfhs;s njhlf;f fy;tp fzpjk; mikjy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zpj mwpthdJ gUg;nghUs;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e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) epiyapypUe;J fUj;jpay;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) epiy (m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wpg;gpl;l vLj;Jf; fhl;bypUe;J nghJ tpjpfisr; rhpghh;f;f&gt; cUthf;f cjTk; mbg;gil epiyNa njhlf;f fy;tpapd; epiyahFk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; fzpj fUj;Jfis rhpahf Ghpe;Jnfhs;sTk;&gt; Ghpe;J nfhz;lij Gjpa R+oypy; gad;gLj;Jk; tpjkhf jpwid tsh;gJ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10515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464646"/>
                </a:solidFill>
                <a:latin typeface="Franklin Gothic Book"/>
                <a:cs typeface="Latha"/>
              </a:rPr>
              <a:t>தேசிய திறனடைவு ஆய்வு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7720" y="928800"/>
            <a:ext cx="10896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தரமான கல்வியினைக் கொண்டு செல்லுவதில் இடர்பாட்டை களை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ஒன்றை காரண காரீயத்தோடு சிந்திக்க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பகுத்தாராய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கருத்தை வெளிப்படுத்த கூடிய அறிவு திறன் ஆகியவற்றை திறன்பட பெறவும் கையாளுதல் அவசியம்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பள்ளியில் மாணவர்கள் சேர்த்தல்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முடித்தல் தேவையானது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போதுமானதன்று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குழந்தையிடம் அறிவு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திறன்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ஆற்றல் அடைவு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மேம்படுத்துவதன் மூலம் வாழ்வாதாரத்தை உயர்த்தி கொள்ள வாய்ப்பளித்தல்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80920" y="713880"/>
            <a:ext cx="105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கற்றல் நிலை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ea typeface="Latha"/>
              </a:rPr>
              <a:t>/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கற்றல் செயலை தொடர்ந்து அளத்தல்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வகுப்பிற்கேற்ப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கலைத்திட்ட பாடப்பொருளுக்கேற்ப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ஆரோக்கியமான கல்வி அமைப்பதற்கான கற்றல் அடைவு ஆதாரத்தை வழங்குதல்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Bamini"/>
              </a:rPr>
              <a:t>ghlj;jpl;lk; 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440" y="571320"/>
            <a:ext cx="11163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zpj fUj;JfNshL njhlh;Gila gpw ghl fUj;Jfis ,izj;J Ghpe;J nfhs;Sjy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huz fhhPaj;NjhL nray;gLk; kdepiyia cUthf;FtJ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zpj nkhop kw;Wk; FwpaPlhdJ ePz;l thf;fpaq;fis FWfpa tbtpYk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Uj;Jfis rhpahd tbtpYk; nfhLg;gjhFk;.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md;whl tho;tpy; vOk; gpur;ridfSf;F fzpj FwpaPl;L tbtj;jpd; Jizf;nfhz;L jPh;f;f ,aYk;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ngUk;ghyhd fzpj fz;L gpbg;Gfs; fzpj nkhopapd; Jizf;nfhz;Nl tptupf;f ,aYk;.  v.fh Id;];Bd; rkd;ghl;i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=mc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vd Fwpj;J fhl;Ljy;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wpaPLfis gl;baypl Ntz;bajpy;iy vd;whYk;&gt; mitfspd; gad;ghl;il mwpe;J nfhs;tJ mtrpakhFk;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6240" y="152280"/>
            <a:ext cx="10515600" cy="609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Bamini"/>
              </a:rPr>
              <a:t>gs;spf; fzpjk; fw;gjd; Nehf;fq;fs;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9240" y="714240"/>
            <a:ext cx="116442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zpjj;ij gakpd;wp&gt; kfpo;r;rpAld; tho;ehs; KOtJk; fw;Fk; ;R+oy;fis</a:t>
            </a:r>
            <a:r>
              <a:rPr b="0" lang="en-US" sz="25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mikj;J jUjy;.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zpj nkhopapy; tpthjpj;jy;&gt; ciuahLjy; kw;Wk; ntspg;gLj;J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oe;ijfs;  mwpT G+h;tkhfTk; Mh;tj;Jld; gq;Nfw;Fk; tifapyhd fzpj nray;ghLfis; mikj;J jU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oe;ijfs; nra;Ak; gpiofis mth;fNs jpUj;jp nfhs;s tha;g;gsp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njhlh;e;J jdpj;J fzf;Ffis mZfp jPh;f;f tha;g;gsp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xU Fwpg;gpl;l fzf;fpw;F gy;NtW topfspy; jPh;T fhz Rje;jpukhf re;jpf;f tha;g;gsp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md;whl tho;tpy; vOk; fzf;Ffisj; jPh;f;Fk; jpwidg; ngw nra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huz fhhPaj;NjhL rpe;jpf;Fk; jpwid tsh;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5440" y="28548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Bamini"/>
              </a:rPr>
              <a:t>fzpjj;jpy; Njh;e;jtuhf jpfo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000080"/>
            <a:ext cx="1112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amini"/>
              </a:rPr>
              <a:t>fzpjrhu rq;fpufk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; E}ypy; fzpjj;jpy; Njh;e;jtuhf jpfo 8 Fzhjpraq;fisg; ngw;wpUj;jy; mtrpak; vd;fpwhh; </a:t>
            </a:r>
            <a:r>
              <a:rPr b="0" lang="en-US" sz="2600" spc="-1" strike="noStrike">
                <a:solidFill>
                  <a:srgbClr val="ff0000"/>
                </a:solidFill>
                <a:latin typeface="Bamini"/>
              </a:rPr>
              <a:t>kfhtPuh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1.   tpiue;J nra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Mokhf rpe;jpj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gFj;jhuha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tpiuthf Ghpe;J nfhs;S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cz;ikia Muha;e;J KbT nra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6.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mjpf epidthw;wiyg; ngw;wpUj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7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jhNd rpe;jpj;jwp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8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njhpe;jjpypUe;J njhpahij fz;lwp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0520" y="228240"/>
            <a:ext cx="11658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mini"/>
              </a:rPr>
              <a:t>Rakhf nray;gly;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Ra fw;wiy ek;Ks; tsh;f;Fk;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gpur;ridfis rhpahf mZfTk;&gt; jPh;f;fTk; gl;rj;jpy; mJ jd;dk;gpf;ifia tsh;f;Fk;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mini"/>
              </a:rPr>
              <a:t>ntspg;gLj;Jk; jpwd;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rhpahd nrhw;fs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njhpT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gad;gLj;Jk; tof;fk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ntspg;gLj;Jtjpy; ijhPak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Jy;ypak;&gt; njspT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Mfpa gz;Gfis tsh;fpd;wJ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3T09:58:09Z</dcterms:created>
  <dc:creator>A.SENTHIL RAJ</dc:creator>
  <dc:description/>
  <dc:language>en-US</dc:language>
  <cp:lastModifiedBy>hp1</cp:lastModifiedBy>
  <dcterms:modified xsi:type="dcterms:W3CDTF">2019-10-01T09:02:53Z</dcterms:modified>
  <cp:revision>31</cp:revision>
  <dc:subject/>
  <dc:title>கணிதப் பாடத்திற்கான கற்றல் விளைவுகள்</dc:title>
</cp:coreProperties>
</file>